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287C-7BF3-466F-86C4-755887B76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09F6-3AD8-401A-A665-5C91397F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1992-208D-42AD-B822-7137C76F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DBC4-53EB-400C-9378-73FEBFE9C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9A0D-7923-4DF2-AD41-AFCEC6BE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1E45-8EC5-4EC3-9028-0FF54DCF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4DF0-CD6A-410F-987B-08AF4DEE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77C7-9CA6-475E-A303-8BF22173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498E-AA1A-4FE4-B3F5-DE9C2702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1AC4-8E81-41B8-87CA-538F82E0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FE66-BA06-4330-B558-3FFF0E8B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5852-48CE-4A21-BC1E-AAFD2044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C61D-8D34-42C3-A45C-EAC78D72F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here to from 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e have learnt so fa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ing WCPFC measures (CMM 2006-01 &amp; 2005-01) established effort caps – but insufficient to address overf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 management measures are being implemented by PNA members with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eement that require ‘complimentary’ measures in the high seas (achieve equivalent effect but not necessarily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s should be established across PS and LL to be effective &amp; not pose disproportional burden on fish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m to minimise impacts on skipjack and albacore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act at the next meeting ……no compromise on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 and compatible with EEZ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vess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catch limit (responsive to population size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n all PS effort or FAD/log se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100% Observ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tag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gested PS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p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S discussion on co-operative management and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closure say 3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 depth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time of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mesh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on phase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tential LL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 and compatible with EEZ meas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vessel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-like sche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catch lim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25% reduction  in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losed areas/seasons (in addition to above measu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bserver 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 of high seas pocke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s of high seas until measures develop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address vulnerability in Eastern se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effort from non-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U eff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 Pressure/ Certif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 certification pressures/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CS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ral additional issu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of th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g-eye and yellowfin measure which include compatible measure  eg VDS on High s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irational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nt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2:15:46Z</dcterms:created>
  <dc:creator>Higgins Amy</dc:creator>
  <dc:description/>
  <dc:language>en-US</dc:language>
  <cp:lastModifiedBy>SANTANA LARA</cp:lastModifiedBy>
  <dcterms:modified xsi:type="dcterms:W3CDTF">2008-04-14T06:35:43Z</dcterms:modified>
  <cp:revision>19</cp:revision>
  <dc:subject/>
  <dc:title>Where to from here?</dc:title>
</cp:coreProperties>
</file>